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20FD-586F-4FE2-9133-725074B6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metadata for dataset; Connect data providers, transformers, and us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/Outc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ription of Air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d metadata shared through an RDF Feed. User provided content: Lineage, websites, papers, FAQ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bout the datas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2F7-4687-4DA6-8AEA-513F9A5F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D8D-7EDF-4090-9EA7-99DA9232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55F-BDC2-421A-9C48-D4B67EAA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DB7-B8D8-423D-AB42-36366E2F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51E-2743-4CB3-8496-B433C1B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DD6-DD2A-42A4-8F30-31717BB0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966-00D5-4504-B76F-9759BD81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76C-F419-439C-AFAD-92AC3D9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624-21DA-4F3B-B181-BE1362AA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9EE-5E33-4131-B816-0926977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1EE-E45D-411F-A09C-B774846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609-01C4-4E3A-AA47-53499B2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F0E-41BB-4DC1-8308-8F963219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esipfed.org/index.php/AQ_Dataset_Metadata_Workspaces" TargetMode="External"/><Relationship Id="rId2" Type="http://schemas.openxmlformats.org/officeDocument/2006/relationships/hyperlink" Target="http://wiki.esipfed.org/index.php/AQ_Dataset_Metadata_Workspaces" TargetMode="External"/><Relationship Id="rId3" Type="http://schemas.openxmlformats.org/officeDocument/2006/relationships/hyperlink" Target="http://wiki.esipfed.org/index.php/AQ_Dataset_Metadata_Workspaces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IP AQ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Quality S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IP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666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P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main-specific interface to G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‘Catalog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rvesting metadata from data system catalogs, individual datasets already available to the air quality community, and reusable services and workflows (composite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Metadata Workspa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ybrid structured and unstructured wiki pages dedicated to registered dataset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746440"/>
            <a:ext cx="6476760" cy="422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2590920"/>
            <a:ext cx="1752840" cy="426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4040" y="795240"/>
            <a:ext cx="1508040" cy="4233960"/>
          </a:xfrm>
          <a:prstGeom prst="rect">
            <a:avLst/>
          </a:prstGeom>
          <a:solidFill>
            <a:srgbClr val="bbe0e3">
              <a:alpha val="24000"/>
            </a:srgbClr>
          </a:solidFill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9840" y="3065400"/>
            <a:ext cx="1095480" cy="45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981080"/>
            <a:ext cx="1168200" cy="52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eari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7" idx="1"/>
            <a:endCxn id="94" idx="3"/>
          </p:cNvCxnSpPr>
          <p:nvPr/>
        </p:nvCxnSpPr>
        <p:spPr>
          <a:xfrm rot="10800000">
            <a:off x="2064600" y="3291840"/>
            <a:ext cx="1973880" cy="74196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"/>
          <p:cNvSpPr/>
          <p:nvPr/>
        </p:nvSpPr>
        <p:spPr>
          <a:xfrm>
            <a:off x="1463760" y="3870360"/>
            <a:ext cx="974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 flipH="1" rot="16200000">
            <a:off x="2066040" y="2048040"/>
            <a:ext cx="1532520" cy="2464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101" idx="1"/>
            <a:endCxn id="95" idx="3"/>
          </p:cNvCxnSpPr>
          <p:nvPr/>
        </p:nvCxnSpPr>
        <p:spPr>
          <a:xfrm flipV="1" rot="10800000">
            <a:off x="2158200" y="1441800"/>
            <a:ext cx="1880280" cy="799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"/>
          <p:cNvSpPr/>
          <p:nvPr/>
        </p:nvSpPr>
        <p:spPr>
          <a:xfrm>
            <a:off x="961920" y="4251240"/>
            <a:ext cx="109548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dard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F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4" idx="2"/>
            <a:endCxn id="102" idx="0"/>
          </p:cNvCxnSpPr>
          <p:nvPr/>
        </p:nvCxnSpPr>
        <p:spPr>
          <a:xfrm rot="5400000">
            <a:off x="1147320" y="3881160"/>
            <a:ext cx="732600" cy="8640"/>
          </a:xfrm>
          <a:prstGeom prst="curvedConnector5">
            <a:avLst>
              <a:gd name="adj1" fmla="val 49852"/>
              <a:gd name="adj2" fmla="val 47826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"/>
          <p:cNvCxnSpPr>
            <a:stCxn id="94" idx="0"/>
            <a:endCxn id="95" idx="2"/>
          </p:cNvCxnSpPr>
          <p:nvPr/>
        </p:nvCxnSpPr>
        <p:spPr>
          <a:xfrm flipH="1" flipV="1" rot="5400000">
            <a:off x="1264320" y="2754720"/>
            <a:ext cx="564120" cy="57600"/>
          </a:xfrm>
          <a:prstGeom prst="curvedConnector5">
            <a:avLst>
              <a:gd name="adj1" fmla="val 49808"/>
              <a:gd name="adj2" fmla="val 49685"/>
              <a:gd name="adj3" fmla="val 49808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"/>
          <p:cNvSpPr/>
          <p:nvPr/>
        </p:nvSpPr>
        <p:spPr>
          <a:xfrm>
            <a:off x="762120" y="2286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GEOS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838080"/>
            <a:ext cx="1168200" cy="52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914400"/>
            <a:ext cx="11685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990720"/>
            <a:ext cx="11685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8" idx="3"/>
            <a:endCxn id="101" idx="1"/>
          </p:cNvCxnSpPr>
          <p:nvPr/>
        </p:nvCxnSpPr>
        <p:spPr>
          <a:xfrm>
            <a:off x="2311200" y="1250640"/>
            <a:ext cx="1727640" cy="192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2"/>
            <a:endCxn id="95" idx="0"/>
          </p:cNvCxnSpPr>
          <p:nvPr/>
        </p:nvCxnSpPr>
        <p:spPr>
          <a:xfrm rot="5400000">
            <a:off x="1415520" y="1669680"/>
            <a:ext cx="47052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038480" y="566640"/>
            <a:ext cx="1752840" cy="1752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66640"/>
            <a:ext cx="1447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1557360"/>
            <a:ext cx="1447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S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52640"/>
            <a:ext cx="4114800" cy="2362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1"/>
            <a:endCxn id="101" idx="3"/>
          </p:cNvCxnSpPr>
          <p:nvPr/>
        </p:nvCxnSpPr>
        <p:spPr>
          <a:xfrm rot="10800000">
            <a:off x="5790600" y="1442160"/>
            <a:ext cx="915120" cy="457920"/>
          </a:xfrm>
          <a:prstGeom prst="curvedConnector5">
            <a:avLst>
              <a:gd name="adj1" fmla="val 49980"/>
              <a:gd name="adj2" fmla="val 49960"/>
              <a:gd name="adj3" fmla="val 4998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11" idx="1"/>
            <a:endCxn id="101" idx="3"/>
          </p:cNvCxnSpPr>
          <p:nvPr/>
        </p:nvCxnSpPr>
        <p:spPr>
          <a:xfrm flipV="1" rot="10800000">
            <a:off x="5790600" y="908640"/>
            <a:ext cx="915120" cy="533880"/>
          </a:xfrm>
          <a:prstGeom prst="curvedConnector5">
            <a:avLst>
              <a:gd name="adj1" fmla="val 67178"/>
              <a:gd name="adj2" fmla="val 50000"/>
              <a:gd name="adj3" fmla="val 671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40640" y="56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6120" y="29289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733920"/>
            <a:ext cx="9907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733920"/>
            <a:ext cx="9907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1"/>
            <a:endCxn id="117" idx="3"/>
          </p:cNvCxnSpPr>
          <p:nvPr/>
        </p:nvCxnSpPr>
        <p:spPr>
          <a:xfrm flipH="1">
            <a:off x="5562000" y="415260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419720" y="1481040"/>
            <a:ext cx="1066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08" idx="2"/>
          </p:cNvCxnSpPr>
          <p:nvPr/>
        </p:nvCxnSpPr>
        <p:spPr>
          <a:xfrm rot="10800000">
            <a:off x="1726560" y="1510560"/>
            <a:ext cx="2692800" cy="2754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486400" y="5486400"/>
            <a:ext cx="18288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22" idx="3"/>
            <a:endCxn id="118" idx="3"/>
          </p:cNvCxnSpPr>
          <p:nvPr/>
        </p:nvCxnSpPr>
        <p:spPr>
          <a:xfrm flipV="1">
            <a:off x="7314840" y="4152600"/>
            <a:ext cx="229320" cy="1905840"/>
          </a:xfrm>
          <a:prstGeom prst="curvedConnector5">
            <a:avLst>
              <a:gd name="adj1" fmla="val 585377"/>
              <a:gd name="adj2" fmla="val 49990"/>
              <a:gd name="adj3" fmla="val 585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Portal Features: ESIP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5040" y="6491160"/>
            <a:ext cx="75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nd NEISGEI Portals use the opensource portal framework, Lif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181840" cy="561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10080" y="1014480"/>
            <a:ext cx="3657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9 GEOSS societal benefit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news content from different RSS f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GC standards, such as CS-W, Z39.50, and W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ve access to multiple catalogs, such as GOS and GCM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semantic search for knowledge-based naviga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ime-dimension search and visu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3D-4D visu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ccess to OpenDAP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data discovery, assess, and order through 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Portal Features: NEIS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5040" y="6491160"/>
            <a:ext cx="75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P and NEISGEI Portals use the opensource portal framework, Lif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440" y="762120"/>
            <a:ext cx="4903920" cy="533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76920" y="990720"/>
            <a:ext cx="396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ntry of content (docs, URLs) of data, tools, literature, news f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ion of content (comments, 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RSS to exchange information between portal and other sources (wikis, portal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YahooPipes of RSS aggregation and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‘saved’ mashup application states (‘save as’ in application creates record in por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keyword tags for al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’ submitted content to de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o look at workspaces in a por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51880" y="6095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eisge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1"/>
              </a:rPr>
              <a:t>Community Data Sharing - ‘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2"/>
              </a:rPr>
              <a:t>DataSpaces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’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495680" cy="312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3633840" cy="1955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334120" y="2438280"/>
            <a:ext cx="3809880" cy="1905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7" name=""/>
          <p:cNvSpPr/>
          <p:nvPr/>
        </p:nvSpPr>
        <p:spPr>
          <a:xfrm flipV="1">
            <a:off x="3962520" y="2819520"/>
            <a:ext cx="1981080" cy="45720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3809880"/>
            <a:ext cx="0" cy="1295640"/>
          </a:xfrm>
          <a:prstGeom prst="line">
            <a:avLst/>
          </a:prstGeom>
          <a:ln w="7632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905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atalog - Fin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352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escribe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181480"/>
            <a:ext cx="365760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iscus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638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arth Science Information Partners (E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609480"/>
            <a:ext cx="3809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mantic Wiki: Structured (RDF and Unstructure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, Standard Metadata - 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ady for Export/Harvesting  by Registrie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ement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log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133720"/>
            <a:ext cx="1752480" cy="380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6668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3610080"/>
            <a:ext cx="762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0600" y="3610080"/>
            <a:ext cx="6094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0600" y="4295880"/>
            <a:ext cx="6094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800" y="1905120"/>
            <a:ext cx="533520" cy="16761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3080" y="2438280"/>
            <a:ext cx="111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URL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733920"/>
            <a:ext cx="1295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7339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GDC, S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72428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48" idx="3"/>
            <a:endCxn id="154" idx="1"/>
          </p:cNvCxnSpPr>
          <p:nvPr/>
        </p:nvCxnSpPr>
        <p:spPr>
          <a:xfrm>
            <a:off x="2361960" y="3124080"/>
            <a:ext cx="610200" cy="106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5" idx="3"/>
            <a:endCxn id="154" idx="1"/>
          </p:cNvCxnSpPr>
          <p:nvPr/>
        </p:nvCxnSpPr>
        <p:spPr>
          <a:xfrm>
            <a:off x="2361960" y="41907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6" idx="3"/>
            <a:endCxn id="154" idx="1"/>
          </p:cNvCxnSpPr>
          <p:nvPr/>
        </p:nvCxnSpPr>
        <p:spPr>
          <a:xfrm flipV="1">
            <a:off x="2361960" y="4190400"/>
            <a:ext cx="61020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49" idx="1"/>
          </p:cNvCxnSpPr>
          <p:nvPr/>
        </p:nvCxnSpPr>
        <p:spPr>
          <a:xfrm flipV="1">
            <a:off x="4267080" y="4180680"/>
            <a:ext cx="4500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9" idx="3"/>
            <a:endCxn id="150" idx="1"/>
          </p:cNvCxnSpPr>
          <p:nvPr/>
        </p:nvCxnSpPr>
        <p:spPr>
          <a:xfrm flipV="1">
            <a:off x="5478120" y="3876480"/>
            <a:ext cx="762840" cy="305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9" idx="3"/>
            <a:endCxn id="151" idx="1"/>
          </p:cNvCxnSpPr>
          <p:nvPr/>
        </p:nvCxnSpPr>
        <p:spPr>
          <a:xfrm>
            <a:off x="5478120" y="4181040"/>
            <a:ext cx="762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5334120" y="1219320"/>
            <a:ext cx="13716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0" idx="3"/>
            <a:endCxn id="163" idx="6"/>
          </p:cNvCxnSpPr>
          <p:nvPr/>
        </p:nvCxnSpPr>
        <p:spPr>
          <a:xfrm flipH="1" flipV="1">
            <a:off x="6705360" y="1561680"/>
            <a:ext cx="144720" cy="2315520"/>
          </a:xfrm>
          <a:prstGeom prst="bentConnector3">
            <a:avLst>
              <a:gd name="adj1" fmla="val -1586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63" idx="6"/>
          </p:cNvCxnSpPr>
          <p:nvPr/>
        </p:nvCxnSpPr>
        <p:spPr>
          <a:xfrm flipH="1" flipV="1">
            <a:off x="6705360" y="1561320"/>
            <a:ext cx="144720" cy="3001320"/>
          </a:xfrm>
          <a:prstGeom prst="bentConnector3">
            <a:avLst>
              <a:gd name="adj1" fmla="val -1586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 flipH="1">
            <a:off x="42670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7280" y="2209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5105520"/>
            <a:ext cx="129528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39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733920"/>
            <a:ext cx="990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58128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95680"/>
            <a:ext cx="0" cy="60984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4416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ar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586728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162920" y="5715000"/>
            <a:ext cx="30456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029200"/>
            <a:ext cx="6094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49" idx="3"/>
            <a:endCxn id="176" idx="1"/>
          </p:cNvCxnSpPr>
          <p:nvPr/>
        </p:nvCxnSpPr>
        <p:spPr>
          <a:xfrm>
            <a:off x="5478120" y="4181400"/>
            <a:ext cx="770760" cy="11152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8" name=""/>
          <p:cNvCxnSpPr>
            <a:stCxn id="176" idx="3"/>
            <a:endCxn id="169" idx="1"/>
          </p:cNvCxnSpPr>
          <p:nvPr/>
        </p:nvCxnSpPr>
        <p:spPr>
          <a:xfrm flipV="1">
            <a:off x="6857640" y="4114080"/>
            <a:ext cx="610200" cy="1181880"/>
          </a:xfrm>
          <a:prstGeom prst="bentConnector3">
            <a:avLst>
              <a:gd name="adj1" fmla="val 3618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9:11:54Z</dcterms:created>
  <dc:creator>WU</dc:creator>
  <dc:description/>
  <dc:language>en-US</dc:language>
  <cp:lastModifiedBy>WU</cp:lastModifiedBy>
  <dcterms:modified xsi:type="dcterms:W3CDTF">2008-09-26T16:07:23Z</dcterms:modified>
  <cp:revision>7</cp:revision>
  <dc:subject/>
  <dc:title>Slide 1</dc:title>
</cp:coreProperties>
</file>